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7F16-EE78-4EDA-9C30-86E57D48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991B-A4A0-412D-9772-46C630EE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7ED5-D84C-4B2B-AF89-07853EBB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2CCE-F3BF-4AF9-B554-7520D079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2C5F-3515-4875-97B7-A154426D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0CC0-8A87-4551-BF07-9F095C97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38AD-14F0-4268-BCD8-8A03431D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5508-C7D2-4BE3-855B-A1781475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F17A-DAE2-469E-B42D-DAB2952B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2160-E6F2-4628-A5AC-5B03E8A7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D8ED-EA27-489D-ABDB-9175DE92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B8D9-8401-4987-88BA-B98EC057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EC2C-9B0B-4349-854A-AF092AFD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8C51-6C1F-4D6D-B40D-4840DBDE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2F9A-AF86-4CD6-9E49-FD4A52B0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FDFF-8F10-44D8-B17C-E9DFDBF3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1088-A496-4306-901B-80AC8B7E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2C4F-9275-40FE-8319-CE41D293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8FB8-2D25-4629-B5FC-20E0734D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9FF0-2C89-4F34-8654-2D3B99CB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E6FF-DCE7-42C6-84D2-6884D7EB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AF64-3719-4095-AE54-E4261FBE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DFA9-2EBC-429F-80F2-A711B6DF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E736-BC47-4998-9DF0-B3AD1AFA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612F-E59E-4A75-A8BF-5B8E6E49204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781E-2839-4F09-BF2D-8917CBA2554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295280" y="2438280"/>
            <a:ext cx="67057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1b0ff"/>
                </a:solidFill>
                <a:latin typeface="Impact"/>
              </a:rPr>
              <a:t>* BIENVENIDOS *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01b0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371600" y="380880"/>
            <a:ext cx="7086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1b0ff"/>
                </a:solidFill>
                <a:latin typeface="Impact"/>
              </a:rPr>
              <a:t>ESTUDIO ECONÓMICO Y FINACIERO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01b0ff"/>
              </a:solidFill>
              <a:latin typeface="Impact"/>
              <a:ea typeface="Impact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362240" y="1593720"/>
          <a:ext cx="7043400" cy="56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1593720"/>
                    <a:ext cx="7043400" cy="56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1062000" y="960480"/>
          <a:ext cx="7851960" cy="376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960480"/>
                    <a:ext cx="7851960" cy="37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531720" y="1062000"/>
          <a:ext cx="7804080" cy="459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1062000"/>
                    <a:ext cx="7804080" cy="45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386000" y="1293840"/>
          <a:ext cx="6811920" cy="498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6000" y="1293840"/>
                    <a:ext cx="6811920" cy="49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3276720" y="2057400"/>
            <a:ext cx="0" cy="213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2057400"/>
            <a:ext cx="0" cy="213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429000"/>
            <a:ext cx="5715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2438280"/>
            <a:ext cx="5715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4191120"/>
            <a:ext cx="5715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2057400"/>
            <a:ext cx="5715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38880" y="2057400"/>
            <a:ext cx="0" cy="213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2057400"/>
            <a:ext cx="0" cy="213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923760" y="1062000"/>
          <a:ext cx="8498160" cy="491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062000"/>
                    <a:ext cx="8498160" cy="49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593720" y="5564160"/>
          <a:ext cx="7180560" cy="901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3720" y="5564160"/>
                    <a:ext cx="718056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295280" y="457200"/>
            <a:ext cx="7086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1b0ff"/>
                </a:solidFill>
                <a:latin typeface="Impact"/>
              </a:rPr>
              <a:t>EVALUACIÓN FINANCIERA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01b0ff"/>
              </a:solidFill>
              <a:latin typeface="Impact"/>
              <a:ea typeface="Impact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362240" y="2286000"/>
          <a:ext cx="6858000" cy="309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2286000"/>
                    <a:ext cx="6858000" cy="30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1371600" y="952560"/>
          <a:ext cx="6719760" cy="445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52560"/>
                    <a:ext cx="671976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1685880" y="1154160"/>
          <a:ext cx="7527960" cy="464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5880" y="1154160"/>
                    <a:ext cx="752796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295280" y="1600200"/>
            <a:ext cx="67057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1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1b0ff"/>
                </a:solidFill>
                <a:latin typeface="Impact"/>
              </a:rPr>
              <a:t>"GRACIAS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01b0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1b0ff"/>
                </a:solidFill>
                <a:latin typeface="Impact"/>
              </a:rPr>
              <a:t>POR SU 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01b0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1b0ff"/>
                </a:solidFill>
                <a:latin typeface="Impact"/>
              </a:rPr>
              <a:t>ASISTENCIA"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01b0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ollos" descr=""/>
          <p:cNvPicPr/>
          <p:nvPr/>
        </p:nvPicPr>
        <p:blipFill>
          <a:blip r:embed="rId1"/>
          <a:stretch/>
        </p:blipFill>
        <p:spPr>
          <a:xfrm>
            <a:off x="6400800" y="2133720"/>
            <a:ext cx="2362320" cy="1904760"/>
          </a:xfrm>
          <a:prstGeom prst="rect">
            <a:avLst/>
          </a:prstGeom>
          <a:ln w="38160">
            <a:solidFill>
              <a:srgbClr val="1e327c"/>
            </a:solidFill>
            <a:miter/>
          </a:ln>
        </p:spPr>
      </p:pic>
      <p:graphicFrame>
        <p:nvGraphicFramePr>
          <p:cNvPr id="132" name=""/>
          <p:cNvGraphicFramePr/>
          <p:nvPr/>
        </p:nvGraphicFramePr>
        <p:xfrm>
          <a:off x="3962520" y="2514600"/>
          <a:ext cx="1981080" cy="2209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2514600"/>
                    <a:ext cx="1981080" cy="2209680"/>
                  </a:xfrm>
                  <a:prstGeom prst="rect">
                    <a:avLst/>
                  </a:prstGeom>
                  <a:ln w="38160">
                    <a:solidFill>
                      <a:srgbClr val="1e327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" name=""/>
          <p:cNvSpPr txBox="1"/>
          <p:nvPr/>
        </p:nvSpPr>
        <p:spPr>
          <a:xfrm>
            <a:off x="1371600" y="974880"/>
            <a:ext cx="7086600" cy="930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ffcc"/>
                </a:solidFill>
                <a:latin typeface="Arial Black"/>
              </a:rPr>
              <a:t>COOPERATIVA PURO POLLO</a:t>
            </a:r>
            <a:endParaRPr b="0" lang="en-US" sz="2000" spc="1" strike="noStrike">
              <a:ln w="9360">
                <a:solidFill>
                  <a:srgbClr val="000080"/>
                </a:solidFill>
                <a:miter/>
              </a:ln>
              <a:solidFill>
                <a:srgbClr val="99ff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99ffcc"/>
                </a:solidFill>
                <a:latin typeface="Arial Black"/>
              </a:rPr>
              <a:t>"D.J.M.K."</a:t>
            </a:r>
            <a:endParaRPr b="0" lang="en-US" sz="2000" spc="1" strike="noStrike">
              <a:ln w="9360">
                <a:solidFill>
                  <a:srgbClr val="000080"/>
                </a:solidFill>
                <a:miter/>
              </a:ln>
              <a:solidFill>
                <a:srgbClr val="99ffcc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4800600"/>
            <a:ext cx="2438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cc"/>
                </a:solidFill>
                <a:uFillTx/>
                <a:latin typeface="Times New Roman"/>
              </a:rPr>
              <a:t>Profesor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cc"/>
                </a:solidFill>
                <a:latin typeface="Times New Roman"/>
              </a:rPr>
              <a:t>Idalia Med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4876920"/>
            <a:ext cx="2743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600" spc="-1" strike="noStrike" u="sng">
                <a:solidFill>
                  <a:srgbClr val="99ffcc"/>
                </a:solidFill>
                <a:uFillTx/>
                <a:latin typeface="Times New Roman"/>
              </a:rPr>
              <a:t>Bachiller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cc"/>
                </a:solidFill>
                <a:latin typeface="Times New Roman"/>
              </a:rPr>
              <a:t>Aray, Delfi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cc"/>
                </a:solidFill>
                <a:latin typeface="Times New Roman"/>
              </a:rPr>
              <a:t>González, Juan Car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cc"/>
                </a:solidFill>
                <a:latin typeface="Times New Roman"/>
              </a:rPr>
              <a:t>Rengel, Kari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cc"/>
                </a:solidFill>
                <a:latin typeface="Times New Roman"/>
              </a:rPr>
              <a:t>Rojas, Milit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ollos" descr=""/>
          <p:cNvPicPr/>
          <p:nvPr/>
        </p:nvPicPr>
        <p:blipFill>
          <a:blip r:embed="rId4"/>
          <a:stretch/>
        </p:blipFill>
        <p:spPr>
          <a:xfrm>
            <a:off x="1143000" y="2127240"/>
            <a:ext cx="2362320" cy="1835280"/>
          </a:xfrm>
          <a:prstGeom prst="rect">
            <a:avLst/>
          </a:prstGeom>
          <a:ln w="38160">
            <a:solidFill>
              <a:srgbClr val="1e327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905120" y="762120"/>
            <a:ext cx="5181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1b0ff"/>
                </a:solidFill>
                <a:latin typeface="Impact"/>
              </a:rPr>
              <a:t>PLANTEAMIENTO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01b0ff"/>
              </a:solidFill>
              <a:latin typeface="Impact"/>
              <a:ea typeface="Impact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2119320"/>
            <a:ext cx="693396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importación de carne de aves provenientes de países vecin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el territorio venezolano existen tanto la materia prima como el recurso humano y el área física idónea para poner en marcha o ejecutar dicho proyec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2057400"/>
            <a:ext cx="693396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provechar las condiciones agroecológicas del Municipio Bolívar (Caripito) para la cría de poll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atisfacción de  la demanda del mercado interno oriental con miras a extenderlo al exter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enerar nuevos empleos a personas de la comun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905120" y="762120"/>
            <a:ext cx="5181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1b0ff"/>
                </a:solidFill>
                <a:latin typeface="Impact"/>
              </a:rPr>
              <a:t>PLANTEAMIENTO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01b0ff"/>
              </a:solidFill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609480"/>
            <a:ext cx="5867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1b0ff"/>
                </a:solidFill>
                <a:latin typeface="Impact"/>
              </a:rPr>
              <a:t>OBJETIVO GENERAL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01b0ff"/>
              </a:solidFill>
              <a:latin typeface="Impact"/>
              <a:ea typeface="Impact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25909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Proporcionar   aves   (pollos)   de  buena  calidad  y  a  precios  solidarios  a  la población en genera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447920" y="380880"/>
            <a:ext cx="655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1b0ff"/>
                </a:solidFill>
                <a:latin typeface="Impact"/>
              </a:rPr>
              <a:t>OBJETIVOS ESPECÍFICOS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01b0ff"/>
              </a:solidFill>
              <a:latin typeface="Impact"/>
              <a:ea typeface="Impact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2057400"/>
            <a:ext cx="6934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tribuir con la calidad de vida de la comunidad Monagu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enerar empleos directos e indirec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atisfacer la demanda existente en el merc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2590920" y="2286000"/>
          <a:ext cx="4190760" cy="311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286000"/>
                    <a:ext cx="4190760" cy="31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 flipV="1">
            <a:off x="4572000" y="1676160"/>
            <a:ext cx="0" cy="533160"/>
          </a:xfrm>
          <a:prstGeom prst="line">
            <a:avLst/>
          </a:prstGeom>
          <a:ln w="38160">
            <a:solidFill>
              <a:srgbClr val="0019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685800"/>
            <a:ext cx="2286000" cy="914400"/>
          </a:xfrm>
          <a:custGeom>
            <a:avLst/>
            <a:gdLst>
              <a:gd name="textAreaLeft" fmla="*/ 521640 w 2286000"/>
              <a:gd name="textAreaRight" fmla="*/ 1764360 w 22860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9144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2"/>
                </a:solidFill>
                <a:latin typeface="Times New Roman"/>
              </a:rPr>
              <a:t>A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2057760" y="3646440"/>
            <a:ext cx="532800" cy="23760"/>
          </a:xfrm>
          <a:prstGeom prst="line">
            <a:avLst/>
          </a:prstGeom>
          <a:ln w="38160">
            <a:solidFill>
              <a:srgbClr val="0019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572000" y="5410080"/>
            <a:ext cx="1440" cy="457200"/>
          </a:xfrm>
          <a:prstGeom prst="line">
            <a:avLst/>
          </a:prstGeom>
          <a:ln w="38160">
            <a:solidFill>
              <a:srgbClr val="0019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722760"/>
            <a:ext cx="533520" cy="19080"/>
          </a:xfrm>
          <a:prstGeom prst="line">
            <a:avLst/>
          </a:prstGeom>
          <a:ln w="38160">
            <a:solidFill>
              <a:srgbClr val="00193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2047800">
            <a:off x="6857640" y="2971440"/>
            <a:ext cx="2286000" cy="914400"/>
          </a:xfrm>
          <a:custGeom>
            <a:avLst/>
            <a:gdLst>
              <a:gd name="textAreaLeft" fmla="*/ 521640 w 2286000"/>
              <a:gd name="textAreaRight" fmla="*/ 1764360 w 22860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6019920"/>
            <a:ext cx="2590560" cy="761760"/>
          </a:xfrm>
          <a:custGeom>
            <a:avLst/>
            <a:gdLst>
              <a:gd name="textAreaLeft" fmla="*/ 591120 w 2590560"/>
              <a:gd name="textAreaRight" fmla="*/ 1999440 w 2590560"/>
              <a:gd name="textAreaTop" fmla="*/ 173880 h 761760"/>
              <a:gd name="textAreaBottom" fmla="*/ 587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9591800">
            <a:off x="304560" y="2971440"/>
            <a:ext cx="2286000" cy="914400"/>
          </a:xfrm>
          <a:custGeom>
            <a:avLst/>
            <a:gdLst>
              <a:gd name="textAreaLeft" fmla="*/ 521640 w 2286000"/>
              <a:gd name="textAreaRight" fmla="*/ 1764360 w 22860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2100000">
            <a:off x="7162200" y="32904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2"/>
                </a:solidFill>
                <a:latin typeface="Times New Roman"/>
              </a:rPr>
              <a:t>CRIAD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9821600">
            <a:off x="533880" y="32763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2"/>
                </a:solidFill>
                <a:latin typeface="Times New Roman"/>
              </a:rPr>
              <a:t>PRODUC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81280" y="61866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2"/>
                </a:solidFill>
                <a:latin typeface="Times New Roman"/>
              </a:rPr>
              <a:t>COOPER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71600" y="2286000"/>
            <a:ext cx="6705720" cy="2590920"/>
          </a:xfrm>
          <a:custGeom>
            <a:avLst/>
            <a:gdLst>
              <a:gd name="textAreaLeft" fmla="*/ 1530720 w 6705720"/>
              <a:gd name="textAreaRight" fmla="*/ 5175000 w 6705720"/>
              <a:gd name="textAreaTop" fmla="*/ 591480 h 2590920"/>
              <a:gd name="textAreaBottom" fmla="*/ 199944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514600" y="2895480"/>
            <a:ext cx="4114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1b0ff"/>
                </a:solidFill>
                <a:latin typeface="Impact"/>
              </a:rPr>
              <a:t>ESTUDIO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01b0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1b0ff"/>
                </a:solidFill>
                <a:latin typeface="Impact"/>
              </a:rPr>
              <a:t>DE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01b0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1b0ff"/>
                </a:solidFill>
                <a:latin typeface="Impact"/>
              </a:rPr>
              <a:t>MERCADO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01b0ff"/>
              </a:solidFill>
              <a:latin typeface="Impact"/>
              <a:ea typeface="Impact"/>
            </a:endParaRPr>
          </a:p>
        </p:txBody>
      </p:sp>
      <p:sp>
        <p:nvSpPr>
          <p:cNvPr id="162" name=""/>
          <p:cNvSpPr/>
          <p:nvPr/>
        </p:nvSpPr>
        <p:spPr>
          <a:xfrm rot="1754400">
            <a:off x="5790960" y="1371600"/>
            <a:ext cx="152280" cy="914400"/>
          </a:xfrm>
          <a:prstGeom prst="upArrow">
            <a:avLst>
              <a:gd name="adj1" fmla="val 50000"/>
              <a:gd name="adj2" fmla="val 150118"/>
            </a:avLst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9774800">
            <a:off x="2971440" y="1447920"/>
            <a:ext cx="152280" cy="914400"/>
          </a:xfrm>
          <a:prstGeom prst="upArrow">
            <a:avLst>
              <a:gd name="adj1" fmla="val 50000"/>
              <a:gd name="adj2" fmla="val 150118"/>
            </a:avLst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7203000">
            <a:off x="6400080" y="4419000"/>
            <a:ext cx="152640" cy="762120"/>
          </a:xfrm>
          <a:prstGeom prst="upArrow">
            <a:avLst>
              <a:gd name="adj1" fmla="val 50000"/>
              <a:gd name="adj2" fmla="val 124823"/>
            </a:avLst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609480"/>
            <a:ext cx="2362320" cy="825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</a:rPr>
              <a:t>AREA DE 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91320" y="762120"/>
            <a:ext cx="2361960" cy="459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</a:rPr>
              <a:t>DEM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10280" y="4648320"/>
            <a:ext cx="1981440" cy="459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</a:rPr>
              <a:t>OFE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5486400"/>
            <a:ext cx="2362320" cy="825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</a:rPr>
              <a:t>ANALÍSIS DE 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0701000">
            <a:off x="4952520" y="4876560"/>
            <a:ext cx="152640" cy="609480"/>
          </a:xfrm>
          <a:prstGeom prst="upArrow">
            <a:avLst>
              <a:gd name="adj1" fmla="val 50000"/>
              <a:gd name="adj2" fmla="val 99823"/>
            </a:avLst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14083200">
            <a:off x="3047760" y="4495680"/>
            <a:ext cx="152640" cy="609480"/>
          </a:xfrm>
          <a:prstGeom prst="upArrow">
            <a:avLst>
              <a:gd name="adj1" fmla="val 50000"/>
              <a:gd name="adj2" fmla="val 99823"/>
            </a:avLst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5264280"/>
            <a:ext cx="3733920" cy="825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</a:rPr>
              <a:t>CANAL DE COMERCI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133720" y="2286000"/>
            <a:ext cx="4876560" cy="1828800"/>
          </a:xfrm>
          <a:prstGeom prst="ellipse">
            <a:avLst/>
          </a:prstGeom>
          <a:solidFill>
            <a:srgbClr val="99ffcc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895480" y="2666880"/>
            <a:ext cx="3276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1b0ff"/>
                </a:solidFill>
                <a:latin typeface="Impact"/>
              </a:rPr>
              <a:t>ESTUDIO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01b0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1b0ff"/>
                </a:solidFill>
                <a:latin typeface="Impact"/>
              </a:rPr>
              <a:t>TÉCNICO</a:t>
            </a:r>
            <a:endParaRPr b="0" lang="en-US" sz="2400" spc="1" strike="noStrike">
              <a:ln w="19080">
                <a:solidFill>
                  <a:srgbClr val="000099"/>
                </a:solidFill>
                <a:miter/>
              </a:ln>
              <a:solidFill>
                <a:srgbClr val="01b0ff"/>
              </a:solidFill>
              <a:latin typeface="Impact"/>
              <a:ea typeface="Impact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1599840" y="2437920"/>
            <a:ext cx="7621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572000" y="16761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858000" y="2286000"/>
            <a:ext cx="3808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1148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77120" y="3809880"/>
            <a:ext cx="53316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666520" y="388620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838080"/>
            <a:ext cx="1752840" cy="459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</a:rPr>
              <a:t>TAMA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464600">
            <a:off x="6021360" y="1666800"/>
            <a:ext cx="2971800" cy="459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</a:rPr>
              <a:t>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4191120"/>
            <a:ext cx="2514600" cy="10159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</a:rPr>
              <a:t>PRODU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5645160"/>
            <a:ext cx="3657600" cy="825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</a:rPr>
              <a:t>INSTALACIONES, EQUIPOS Y PERS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4495680"/>
            <a:ext cx="2819520" cy="459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</a:rPr>
              <a:t>OBRA FÍS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9980600">
            <a:off x="-1440" y="1829160"/>
            <a:ext cx="2819520" cy="459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2"/>
                </a:solidFill>
                <a:latin typeface="Times New Roman"/>
              </a:rPr>
              <a:t>ORGAN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23:51:19Z</dcterms:created>
  <dc:creator>LIGIA RAMOS</dc:creator>
  <dc:description/>
  <dc:language>en-US</dc:language>
  <cp:lastModifiedBy>LIGIA RAMOS</cp:lastModifiedBy>
  <dcterms:modified xsi:type="dcterms:W3CDTF">2006-07-20T03:23:44Z</dcterms:modified>
  <cp:revision>20</cp:revision>
  <dc:subject/>
  <dc:title>Sin título de diapositiva</dc:title>
</cp:coreProperties>
</file>